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8133-DB5D-4906-8847-DF5780775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E294-6F6A-4F0A-ADBB-A903D8FB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A55A8-FCCE-4376-9863-3BC99E42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9F34E4-115E-4CFA-A39E-C135388B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911BB5-E619-4BC9-BC06-0D14C09C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123DFA-56C9-42A5-BC25-5147DAD2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C87788-9631-4D71-8BFB-37BB8313E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13231-4954-4258-9AE0-191D01F7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2E241-C1FA-4E60-80B9-61F3378D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827E32-27D7-417F-81D9-3F9445FD3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ED8FFD-B962-47A2-A0DC-6B8AD82D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90F46-2E82-4B35-BFA0-025AF3C0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5809-C28D-4CD9-AE9A-673E84F5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18B63F-7288-4F55-AA95-D25AACBF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CFB17-59B0-414E-B47F-39C48570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DDD93E-5126-419F-86E5-F65A56DD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375F8-C33A-4907-9706-1F46E77D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B82DA-38A3-4A80-9F2F-85A743347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255687-F6CF-4845-88AC-232188B5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5D924-1895-48BB-A70B-37FB1DD1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268EC7-8774-4952-8C20-985417E5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2BEAAE-6003-4F73-8F33-2452B4D8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7B96E-7A54-406F-AA56-1ED67ED83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2B8F-2CA4-4F08-AB90-9F396343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73213-8F97-432B-AE72-F1353394D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4ACE22-32E2-49F7-A6F5-0881D52C4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000F53-545A-4A75-841C-8E7394668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918BF-64FA-4761-84AF-889E706BD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92AAF-70BB-444C-9F8A-6F8A09E0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EAE62-80F0-4BB7-98CA-A12C6948C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3057C0-BB03-4B54-959A-3BDC2E76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B4250-A0AC-4B52-8DAA-667C270F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84D35B-3704-40B5-A70E-10EE92DD3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B7685F-6461-4D02-8CC6-71D36CE9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C5A94-3C1C-45D0-A716-A42EDD4AF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7F458A-E72E-4AD6-9797-F351A4325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D5EFC-F3F8-4ED2-B05F-C07EC80A7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E0572-0E16-4407-BCB0-FF21F5BB8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05A64-0C68-41CD-9241-7C310D9E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590F3C-791B-4CEE-B12A-5D312307E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74A616-F6C6-4A47-B383-2A154D9C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00DD36-AE12-4CDA-B8F9-0BFBE3B1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C2F415-DF6E-497A-9A61-D0D4423A1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DE00EA-8B4F-4E1A-A93C-70D286391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AA89E-254F-4229-84A3-5C0BD3DFD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5CD7F-ECDC-42CE-94B7-BD5ECD24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AACE0D-104F-4EE2-BF5A-24ACF6AE5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E50F8-C962-49FE-B271-F0181D394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F9A6BF-97C3-45B1-901B-23D83383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286B9-A682-4535-96CC-B2EF5E82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775B54-735D-420A-9BA1-EA758981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B2BA82-9471-4E3C-A600-D8FFADC17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BF89A-2491-4F72-A3B8-462BBB5D0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D74F79-5384-479B-A744-C883D7B9A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D5CA7B-16CE-44B8-A072-9C4F96B6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98151F-A6BD-4246-B3B2-E4F30614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1CD9E-C490-4895-BF23-77EEBD69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0B380-D9E3-48ED-AED4-73E263A7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84D6E6-04F0-46AF-964E-9EC595DE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63FFD7-05BA-4D5F-AB8F-85A52AD6D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958E3A-14D6-4C00-9B54-1A740237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5A730-FE64-4703-A058-1B960A25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EAFD7-C4BA-49F1-943E-9CA3FAB3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EB8F54-1A87-4C7C-95E7-8EC21E86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11C6E7-8619-4C7B-83C8-9844B8BCC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40E8CD-46CA-451D-B04E-B1ED58946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A4B969-FA38-4B38-A0A1-4482BF86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B2E7-8B0A-42B4-B55A-E386D975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C55F07-9586-4B80-BF3E-02E086D1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76780-E11F-4C1F-895A-0BC568BE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835618-21F5-484F-92ED-C3E2C9C4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A9D3D4-DEAC-4748-BB74-CDAD3F17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D418E5-B000-4820-8D76-19465924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01AF53-9A5D-4A91-A6E7-267967C4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156C20-AB4D-43D3-B810-2A29B9CC5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BCA46-14EB-49A3-9C31-DAF8DF9D7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CA234E-F266-48E2-9528-5D493D3D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E853C6-FB14-4483-8C4D-34195153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4343-86DF-49A9-B433-A3F773DA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017DB-EAFD-471C-8121-1525887A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0A50B7-6E0F-4A19-99DF-8148DD4D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826F8C-6A11-4D30-AF50-87415338E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70F0A-69C5-48EC-8B0B-189D0D41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6AEB9A-F6CC-4BB0-BA7D-F99A3FA6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35ECD-B23A-4F4E-9014-EDEF952D8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30323E-1065-42F4-AC3C-DC9D7AAA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7C323DA-FF4E-4F6B-8F26-1C39224BB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5474A-C2C5-484D-B983-AD6FC5F6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4F9CC4-DDB1-4C38-A95C-EDD81D186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8ABA7-1F7C-4855-956C-A08CF2B4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16752F-83B0-41D1-91D7-AAF921E1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8A5E56-8067-48D1-806B-3BE53480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134685-FAAB-48DC-8182-B377A40EF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6C064A-A758-45E9-A0D1-C0922FED1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4BCDC2-0EA6-4DC3-B133-0958D2D8F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F3C880B-1796-4092-BEBD-7F93E4301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4B6A0D-04AE-454A-9094-A9A9FBFE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032744-9369-4648-BE14-D618367F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D05855-1BC1-47CF-8D73-F7886FBD0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C87E9-F26E-4472-866A-0F56891D4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69E33-592D-4FC4-858E-F6E7E95F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A2EAF-EDA8-4705-AE7C-D1CDAD6E7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6E1555-760D-49CF-9459-A541DA76F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9A304-E086-4911-B58F-5866D8ADB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9BD05-D406-44F9-B29F-02320F1A1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3EAFB-35EC-47AF-9E1D-C042C449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57D94C-95A1-4AF7-89CF-47F9ED16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BC161C-D7F6-459D-8FA5-8F0AF32E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069119-A3BF-4C27-98DE-4A2ED3B1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EAF942-BA0A-44D2-AAA0-DE3C48CF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380D8E-6F0B-4DC9-ADDF-428DB2BB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0FC-D1A0-4BF3-843B-6A4DD6648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746B-099F-4B65-88ED-17F1DB5F1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DB9CB5-ED5B-4B08-A9D6-68AC0F5D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AA9ED2-9D4B-4ECD-9422-A76B8DE4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2C963C-0479-47CE-8FD2-3232B5C1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D7881C-863D-402A-8D5B-6FD23A4F7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44D4E9-6B01-4770-BC0F-D6136D17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C9F79A-D893-47EF-AFE0-BC6E5837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8E6838-E426-4439-8A13-CC51B5F7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D88A08-A941-46B3-8DBC-3E3B867D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134B525-FC69-4597-ADC9-F0EC1C0C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20E0F55-5919-4A49-ADCC-6C99F3A3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F4ED-0C46-4343-B585-BEC3D620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2526FF-EA80-4C6B-B10F-FBCB0481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C3F40-E71B-48B9-8F1C-B8F51DB4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D6235A-849C-4420-A4BC-08B2A4A5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7B5F2B-3BF7-499D-B42B-F8B5D94E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95EFE6-5FBC-49D3-817E-0B4816A7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473565-51B2-4519-88A5-88B2A35C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FA1537-8372-47C9-8DD0-4C64BCC6A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C6EFD5-D8B1-4AC0-96C1-8EA5A0A1A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31C222-A0B1-4871-8C29-0F4FB2D9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EDB50E-E58D-44F7-8024-853343AB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526A-CEF3-4CF1-988E-579EF9CE1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592E6F-3733-4EFE-AFED-9FF4A0F1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DAA699-0285-456D-AB14-D0818D29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BB8791-9624-47F1-9FE8-8E961407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180AA2-0C8A-4F8D-AC05-395998BB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5F4F7B-138D-46F9-ABE2-47FFA137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F8D76-13E6-48A2-ADEB-160F7ED9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D7874F-6C0A-4029-B2FC-CB135B22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F1A38F-A130-4CB1-966F-E479D4229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E25CAB-0227-470F-830B-A725888CD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1C399C-AFCA-4105-9677-ABBAE70A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151B-172D-4257-9489-F5D96DBE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EAA73A-C489-42C5-878A-00F34EB4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545259-CE8F-44CA-A4DC-0AAB35F0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458C2E-8D93-4C7E-B379-7BC17FE9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34A208-2EE1-44E5-A247-23C5D2F1E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967BE2-C931-4D4B-B124-30BE9E333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F282E1-9346-4297-BB9A-3287E9D9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8613AB-782B-48CD-8205-A0C4FEE1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9AFE44-2FBE-405A-A4C3-6D20C75E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39A360-FB33-4046-BAA7-E65ED1B3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9BEE48-1534-4A89-AD51-CE204FA96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78E52-AF0C-4E56-8491-FCDA63E8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1D0EA7-D142-44CC-87AC-F74AD4F5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CC6F1-E31B-4813-A6CD-D2887816C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8B5482-6C07-4245-AA96-889CCFBB3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046B26-329F-41F3-91B8-DBB41DAEA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53049F-0853-40E4-A36F-73FA2E91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E80B08-51A3-4C0A-9367-F127ECE3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C9BA784-EE4B-4B0A-87A5-13A83A2E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F326B6-E19C-4BB7-AA65-955322A6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C7FC4C-C6C9-4C20-99F9-3A969DD0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5D9262-99C8-471C-8B52-8709A23A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A5D75-F3AE-4A88-B2C9-BF54ED64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A15BE16-C1ED-4050-BE5F-478FA6134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E6932B-4F20-4870-9571-7A739D871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4064C-4AD1-44D3-BFB2-3B446EEE2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3CA86-0D78-4823-BBD5-3A4412C6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5DC30-CF4E-4562-B809-E6B9947E8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2AB8C-D05F-4D28-AFF3-E49B3930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0F0E0-5938-4355-B31E-4C337985B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1B36-AC84-4B3F-A89C-53C4C634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CFE14-A0FD-4DDB-9518-F13E87C9B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968B23-8DFA-478D-8824-36AE3FE74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B947F-9AAB-4CC6-9521-91B0A6A4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33B41-D99D-416F-8E12-8650DC796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64194-6DE9-467D-896A-762829B6B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F1C8A-A574-405D-B187-205A17EC6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C0DCF-0BEF-4FB4-82DB-25B1C9D4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F7695-260C-4D4C-AC39-439C85E1A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E1E75-18D2-4833-BCD1-7217719F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0C94C-23D5-4C3D-ACE5-749986104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56D4-7DEC-4C73-BCDA-A4718EA17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0CCFA-1D8D-4C1E-BDF4-9F0AF1050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CBD7E7-61AC-4857-8076-D7AF1BF7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8EC02-C726-49E4-90F7-3FFA8330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ED2EE-9FA0-4D80-AF8C-00E821B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EF166-72CD-43E4-AC80-6B9C9658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E9A1D-F3D3-4794-822D-34D4C7682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54EB0-3385-4D9D-B89E-502AE452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E3EE2-BFF6-4ECE-8316-6A8DFA3AE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470A9-8FA1-41B5-99D9-BE4195003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F4B381-207A-4958-AF9C-95EAC2AE9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FB2D-5F74-4D78-AA35-516783BA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9C702-658E-4550-B3C1-8610BA50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5ABDC-7BCE-48E1-BFEE-EFD145D7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DE0DF6-F3A2-43DE-BA92-9C146F5F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6C8D81-CFD0-4D92-B1E3-9942B0A8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5AB92-38FC-4D96-A5D9-1AB5611E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52419-D091-4E75-91FF-F5D678F0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1069D-0368-4E84-BB0E-7D88A37C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D879AC-6768-469C-A07A-A2E483A1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118B6-66A7-46A8-94FA-C6FC9A3B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BADC0-7820-4447-993D-F478BE4D8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4CD-1348-470F-ADBC-D6F6548A8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53BE5-FD68-4D51-A010-D2FB71B72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12CCA9-71C2-465B-9E3D-65BAE87D6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62B37-3277-4091-ADCC-0359BFEB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2B287-A25F-4256-82A6-A7659420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C5932-69DB-4FC1-B533-3DCED7C5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6E302-D7E6-4566-8ACC-160F5C16D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D4E08-E18C-4E7D-AE65-17AADEA67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FA1027-1462-4F0B-BBD9-E9FDA2D9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CDDA1-85DF-4514-8D11-0A59AB64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71D33-F69A-490F-A835-71AB6D8C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DE88-EE59-4B33-B4EF-D73C9093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B47B9-5A9B-410E-9479-2348434B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EFA6D-D537-41FA-A68F-B292FEED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ADBA3-F535-4ACA-84BD-7B11811E9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170C8E-048C-41D4-AB6A-9E909D523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EF57C-1001-4CE8-91C7-756FFCAA3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89F93-9A91-4B2D-8209-A1CD55DB5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758D2-EF65-4B68-B323-60148DBF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EBE832-B10B-49C7-B8B9-41E6FA613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503C9-0FB6-4D12-A990-1760F629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8CF7E-7D9F-4CE2-A49A-57A7C6D1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9FB3-CDC8-4B54-803B-116B0141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660DC-05A5-4AE0-8105-9AEDC227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54B6D-8593-44C4-856A-EDD6E5DF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D8D3A-764C-44DA-9CFB-ECFA0368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07E586-4690-4385-A169-47A0DC6DE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93C66-3717-4EF9-8697-945092DF5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3D68E8-3EAF-4767-B85F-B5990C67F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0740DA-9707-4170-A098-F4CFF65E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039149-0C33-427B-83B5-8112CB9F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895819-FCEE-40D3-B407-3DA9587F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551FD-1515-44C7-9E16-FCAE594D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FD49-DAC2-4E01-BAE6-33540B642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5CA1D1-4406-4EF1-817B-0B264367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8B01B5-40E9-4ADE-91C6-34EEB16D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D3F681-D48F-421A-ACD5-84FB5A4B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FAE43-3664-42EB-A9B1-20C16721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8EB9B4-6EBF-4EF2-928B-537321BD3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2EB4F-00F7-48A4-8216-10CCD5DCE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3F9A5-3311-4999-855A-5A7BC629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1FD6E6-4304-4463-8A13-4D1E20AF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CF38FB-2B31-4476-AEF1-92B97F0E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AA4D15-CF06-4EDD-B45E-EDB6855C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E7FD-5B43-46D0-8315-0039E8202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D031-F9A3-4E4D-9C8D-84D2D3FE08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647A-C9B4-4D7B-9AC0-FC1C3DD567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1129-768E-479E-BEE7-C9463341C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9D5C-C54B-4DD3-8821-ABAFD352213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FB26-8ABF-43F0-B6FA-EB7D434D5A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F609-F238-4F1E-8D71-2F2E90412A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96DE-CED7-45C9-B55D-0E6BBB581A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DF9C-9929-4F61-808B-B2611DA55B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9CBDE-5A16-48D6-8908-296A7B81A3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CCC76-45FF-4533-8062-2EAFD40964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ADCF-F7C4-48CF-B596-DA9C5E5844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E8F1-700F-4916-A647-6D0024B2EB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F3EE-5B74-4E39-98FC-3863E440DF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7F7D-98B6-47DD-967E-D33230E472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F788F-44DF-43BB-B19E-4E50620F22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824E-4EA6-465D-B411-89117314B7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84105-9957-4018-945C-901B18279F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3A4B-837E-48D3-92BB-4AD27D39BF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AC46-2634-4078-8F39-C63EA0CE55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3D74-32A5-4797-92FF-EBC5866B1D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31B9-B6BF-4CC6-9649-8B8D7670C5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3C06-3AD0-41D4-AE62-DFEEAA0E01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E2DA-EF01-475B-8979-F8D1200A3D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61E2-1280-4BF4-B387-9D4E060521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FF0D-6171-4624-AFE8-EC1B28F90D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F578-1800-4E90-A02C-70F16AF5AC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F557-8EC8-467F-A463-EE9243832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5E24F-98D5-4877-B305-B8DB8E3A56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8F0B-8106-4015-AE8A-1B572B62EFB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49EF-DD99-4546-92B8-3907F10A18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D3FF-6CEE-4705-B2D7-705AEF909B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1FB5-D587-4FF7-8E61-B352093DBE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CB08-C131-45D0-ABCE-721030C6B4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B0B8-34DD-4101-BDB8-6D96E4398A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A93D1-FDA0-4384-9014-BAC30E88C9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8F032-CCD1-42FD-A728-B195CBFE94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51310-763F-4D75-A12C-1C8DFF156C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293D-1BFE-4D84-8D83-6CCE960FA3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DAD9-FEA8-485A-A6D6-B158ED3B48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2" descr=""/>
          <p:cNvPicPr/>
          <p:nvPr/>
        </p:nvPicPr>
        <p:blipFill>
          <a:blip r:embed="rId1"/>
          <a:stretch/>
        </p:blipFill>
        <p:spPr>
          <a:xfrm>
            <a:off x="2771640" y="3200400"/>
            <a:ext cx="36007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Picture 1" descr=""/>
          <p:cNvPicPr/>
          <p:nvPr/>
        </p:nvPicPr>
        <p:blipFill>
          <a:blip r:embed="rId1"/>
          <a:stretch/>
        </p:blipFill>
        <p:spPr>
          <a:xfrm>
            <a:off x="652320" y="1266840"/>
            <a:ext cx="7839360" cy="432432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4" descr=""/>
          <p:cNvPicPr/>
          <p:nvPr/>
        </p:nvPicPr>
        <p:blipFill>
          <a:blip r:embed="rId2"/>
          <a:stretch/>
        </p:blipFill>
        <p:spPr>
          <a:xfrm>
            <a:off x="285840" y="28972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4" descr=""/>
          <p:cNvPicPr/>
          <p:nvPr/>
        </p:nvPicPr>
        <p:blipFill>
          <a:blip r:embed="rId3"/>
          <a:stretch/>
        </p:blipFill>
        <p:spPr>
          <a:xfrm>
            <a:off x="285840" y="3297240"/>
            <a:ext cx="87868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5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5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357120" y="1204920"/>
            <a:ext cx="8429760" cy="444816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4" descr=""/>
          <p:cNvPicPr/>
          <p:nvPr/>
        </p:nvPicPr>
        <p:blipFill>
          <a:blip r:embed="rId2"/>
          <a:stretch/>
        </p:blipFill>
        <p:spPr>
          <a:xfrm>
            <a:off x="7715160" y="2786040"/>
            <a:ext cx="857520" cy="3700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4" descr=""/>
          <p:cNvPicPr/>
          <p:nvPr/>
        </p:nvPicPr>
        <p:blipFill>
          <a:blip r:embed="rId3"/>
          <a:stretch/>
        </p:blipFill>
        <p:spPr>
          <a:xfrm>
            <a:off x="8072280" y="3611520"/>
            <a:ext cx="857520" cy="37008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4" descr=""/>
          <p:cNvPicPr/>
          <p:nvPr/>
        </p:nvPicPr>
        <p:blipFill>
          <a:blip r:embed="rId4"/>
          <a:stretch/>
        </p:blipFill>
        <p:spPr>
          <a:xfrm>
            <a:off x="857160" y="4000680"/>
            <a:ext cx="1214640" cy="36972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4" descr=""/>
          <p:cNvPicPr/>
          <p:nvPr/>
        </p:nvPicPr>
        <p:blipFill>
          <a:blip r:embed="rId5"/>
          <a:stretch/>
        </p:blipFill>
        <p:spPr>
          <a:xfrm>
            <a:off x="8244000" y="4429080"/>
            <a:ext cx="857160" cy="37008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4" descr=""/>
          <p:cNvPicPr/>
          <p:nvPr/>
        </p:nvPicPr>
        <p:blipFill>
          <a:blip r:embed="rId6"/>
          <a:stretch/>
        </p:blipFill>
        <p:spPr>
          <a:xfrm>
            <a:off x="857160" y="4838760"/>
            <a:ext cx="1214640" cy="3715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4" descr=""/>
          <p:cNvPicPr/>
          <p:nvPr/>
        </p:nvPicPr>
        <p:blipFill>
          <a:blip r:embed="rId7"/>
          <a:stretch/>
        </p:blipFill>
        <p:spPr>
          <a:xfrm>
            <a:off x="8001000" y="4836960"/>
            <a:ext cx="857160" cy="3700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4" descr=""/>
          <p:cNvPicPr/>
          <p:nvPr/>
        </p:nvPicPr>
        <p:blipFill>
          <a:blip r:embed="rId8"/>
          <a:stretch/>
        </p:blipFill>
        <p:spPr>
          <a:xfrm>
            <a:off x="928800" y="5246640"/>
            <a:ext cx="857160" cy="3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299880" y="1019160"/>
            <a:ext cx="8544240" cy="555300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4" descr=""/>
          <p:cNvPicPr/>
          <p:nvPr/>
        </p:nvPicPr>
        <p:blipFill>
          <a:blip r:embed="rId2"/>
          <a:stretch/>
        </p:blipFill>
        <p:spPr>
          <a:xfrm>
            <a:off x="8001000" y="3000240"/>
            <a:ext cx="465120" cy="3970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4" descr=""/>
          <p:cNvPicPr/>
          <p:nvPr/>
        </p:nvPicPr>
        <p:blipFill>
          <a:blip r:embed="rId3"/>
          <a:stretch/>
        </p:blipFill>
        <p:spPr>
          <a:xfrm>
            <a:off x="8001000" y="4643280"/>
            <a:ext cx="465120" cy="3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1" descr=""/>
          <p:cNvPicPr/>
          <p:nvPr/>
        </p:nvPicPr>
        <p:blipFill>
          <a:blip r:embed="rId1"/>
          <a:stretch/>
        </p:blipFill>
        <p:spPr>
          <a:xfrm>
            <a:off x="395280" y="1790640"/>
            <a:ext cx="8353440" cy="327672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4" descr=""/>
          <p:cNvPicPr/>
          <p:nvPr/>
        </p:nvPicPr>
        <p:blipFill>
          <a:blip r:embed="rId2"/>
          <a:stretch/>
        </p:blipFill>
        <p:spPr>
          <a:xfrm>
            <a:off x="4786200" y="255276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376200" y="1523880"/>
            <a:ext cx="8391600" cy="38102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4" descr=""/>
          <p:cNvPicPr/>
          <p:nvPr/>
        </p:nvPicPr>
        <p:blipFill>
          <a:blip r:embed="rId2"/>
          <a:stretch/>
        </p:blipFill>
        <p:spPr>
          <a:xfrm>
            <a:off x="4857840" y="3714840"/>
            <a:ext cx="465120" cy="3967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4" descr=""/>
          <p:cNvPicPr/>
          <p:nvPr/>
        </p:nvPicPr>
        <p:blipFill>
          <a:blip r:embed="rId3"/>
          <a:stretch/>
        </p:blipFill>
        <p:spPr>
          <a:xfrm>
            <a:off x="7715160" y="4857840"/>
            <a:ext cx="465120" cy="3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455760" y="747720"/>
            <a:ext cx="8215200" cy="6072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3" descr=""/>
          <p:cNvPicPr/>
          <p:nvPr/>
        </p:nvPicPr>
        <p:blipFill>
          <a:blip r:embed="rId2"/>
          <a:stretch/>
        </p:blipFill>
        <p:spPr>
          <a:xfrm>
            <a:off x="3817800" y="1889280"/>
            <a:ext cx="2428920" cy="2381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4" descr=""/>
          <p:cNvPicPr/>
          <p:nvPr/>
        </p:nvPicPr>
        <p:blipFill>
          <a:blip r:embed="rId3"/>
          <a:stretch/>
        </p:blipFill>
        <p:spPr>
          <a:xfrm>
            <a:off x="285840" y="1889280"/>
            <a:ext cx="3429000" cy="39816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4" descr=""/>
          <p:cNvPicPr/>
          <p:nvPr/>
        </p:nvPicPr>
        <p:blipFill>
          <a:blip r:embed="rId4"/>
          <a:stretch/>
        </p:blipFill>
        <p:spPr>
          <a:xfrm>
            <a:off x="285840" y="2297160"/>
            <a:ext cx="3429000" cy="3985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4" descr=""/>
          <p:cNvPicPr/>
          <p:nvPr/>
        </p:nvPicPr>
        <p:blipFill>
          <a:blip r:embed="rId5"/>
          <a:stretch/>
        </p:blipFill>
        <p:spPr>
          <a:xfrm>
            <a:off x="7858080" y="5072040"/>
            <a:ext cx="42876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2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1" descr=""/>
          <p:cNvPicPr/>
          <p:nvPr/>
        </p:nvPicPr>
        <p:blipFill>
          <a:blip r:embed="rId1"/>
          <a:stretch/>
        </p:blipFill>
        <p:spPr>
          <a:xfrm>
            <a:off x="385920" y="1209600"/>
            <a:ext cx="8372160" cy="44388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2" descr=""/>
          <p:cNvPicPr/>
          <p:nvPr/>
        </p:nvPicPr>
        <p:blipFill>
          <a:blip r:embed="rId2"/>
          <a:stretch/>
        </p:blipFill>
        <p:spPr>
          <a:xfrm>
            <a:off x="6500880" y="1071720"/>
            <a:ext cx="2381040" cy="5140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4" descr=""/>
          <p:cNvPicPr/>
          <p:nvPr/>
        </p:nvPicPr>
        <p:blipFill>
          <a:blip r:embed="rId3"/>
          <a:stretch/>
        </p:blipFill>
        <p:spPr>
          <a:xfrm>
            <a:off x="7054920" y="5194440"/>
            <a:ext cx="426960" cy="39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Picture 1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82240" cy="441936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4" descr=""/>
          <p:cNvPicPr/>
          <p:nvPr/>
        </p:nvPicPr>
        <p:blipFill>
          <a:blip r:embed="rId2"/>
          <a:stretch/>
        </p:blipFill>
        <p:spPr>
          <a:xfrm>
            <a:off x="285840" y="2378160"/>
            <a:ext cx="5902200" cy="39852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4" descr=""/>
          <p:cNvPicPr/>
          <p:nvPr/>
        </p:nvPicPr>
        <p:blipFill>
          <a:blip r:embed="rId3"/>
          <a:stretch/>
        </p:blipFill>
        <p:spPr>
          <a:xfrm>
            <a:off x="285840" y="2774880"/>
            <a:ext cx="5902200" cy="39852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4" descr=""/>
          <p:cNvPicPr/>
          <p:nvPr/>
        </p:nvPicPr>
        <p:blipFill>
          <a:blip r:embed="rId4"/>
          <a:stretch/>
        </p:blipFill>
        <p:spPr>
          <a:xfrm>
            <a:off x="285840" y="3203640"/>
            <a:ext cx="5902200" cy="39852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4" descr=""/>
          <p:cNvPicPr/>
          <p:nvPr/>
        </p:nvPicPr>
        <p:blipFill>
          <a:blip r:embed="rId5"/>
          <a:stretch/>
        </p:blipFill>
        <p:spPr>
          <a:xfrm>
            <a:off x="285840" y="3592440"/>
            <a:ext cx="5902200" cy="39852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4" descr=""/>
          <p:cNvPicPr/>
          <p:nvPr/>
        </p:nvPicPr>
        <p:blipFill>
          <a:blip r:embed="rId6"/>
          <a:stretch/>
        </p:blipFill>
        <p:spPr>
          <a:xfrm>
            <a:off x="285840" y="3959280"/>
            <a:ext cx="5929200" cy="3985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4" descr=""/>
          <p:cNvPicPr/>
          <p:nvPr/>
        </p:nvPicPr>
        <p:blipFill>
          <a:blip r:embed="rId7"/>
          <a:stretch/>
        </p:blipFill>
        <p:spPr>
          <a:xfrm>
            <a:off x="285840" y="43876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4" descr=""/>
          <p:cNvPicPr/>
          <p:nvPr/>
        </p:nvPicPr>
        <p:blipFill>
          <a:blip r:embed="rId8"/>
          <a:stretch/>
        </p:blipFill>
        <p:spPr>
          <a:xfrm>
            <a:off x="285840" y="4765680"/>
            <a:ext cx="8786880" cy="3985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4" descr=""/>
          <p:cNvPicPr/>
          <p:nvPr/>
        </p:nvPicPr>
        <p:blipFill>
          <a:blip r:embed="rId9"/>
          <a:stretch/>
        </p:blipFill>
        <p:spPr>
          <a:xfrm>
            <a:off x="285840" y="5205240"/>
            <a:ext cx="878688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5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1" descr=""/>
          <p:cNvPicPr/>
          <p:nvPr/>
        </p:nvPicPr>
        <p:blipFill>
          <a:blip r:embed="rId1"/>
          <a:stretch/>
        </p:blipFill>
        <p:spPr>
          <a:xfrm>
            <a:off x="399960" y="1066680"/>
            <a:ext cx="834408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4T06:46:02Z</dcterms:modified>
  <cp:revision>4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